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4.jpeg" ContentType="image/jpeg"/>
  <Override PartName="/ppt/media/image19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4.gif" ContentType="image/gif"/>
  <Override PartName="/ppt/media/image16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E59F-D797-4DF4-AF7B-B661C08864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3916-E055-496B-BE1D-6C9B3F5C98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A5E9-DFE2-4198-9AE0-A995F156AB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чалом пилотируемой космонавтики стал полёт советского космонавта Юрия Гагарина 12 апреля 19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6C76-8670-4E3E-B96C-7597106EAF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.04.19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6:07 с космодрома Байконур стартовала ракета-носитель 8К72, впоследствии названная РН "Восток",  которая вывела на околоземную орбиту советский космический корабль "Восток" 3КА №3. Впервые в мире космический корабль с человеком на борту ворвался в просторы Вселенн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1F29-B99A-4180-AE32-F906D908B0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рабль пилотировал советский космонавт Юрий Алексеевич Гагарин. (1936-1968)-летчик-космонавт СССР, полковник, Герой Советского Союза. Окончил Военно-воздушную инженерную академию им. Н.Е.Жуковск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 апреля 1961 г. впервые в истории человечества совершил полет в космос на космическом корабле "Восток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аствовал в обучении и тренировке экипажей космонавтов. Почетный член Международной академии астронавтики. Погиб во время тренировочного полета на самолете. Именем Гагарина назван кратер на обратной стороне Лу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Леонов в космос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длительной работы в космосе используют станции «Салют» и «Мир». Размеры их таковы, что внутри могут длительное время жить и работать несколько космонавтов. Они ведут научные исследования не только внутри космического корабля, но и в открытом космосе. Связь станций с Землей осуществляется космическими кораблями типа «Союз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9166-C19B-4CCC-A6AD-AE1721DB43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6C7B-F904-4DDA-A666-4354AD49F6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ahoma"/>
              </a:rPr>
              <a:t>Космические аппараты исследуют не только Землю, но и её естественный спутник – Луну. Много интересного рассказали о ней запущенные в СССР луноходы, управляемые с Зем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084D-C749-41A3-A71B-AFF9F589F3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Одно из самых выдающихся свершений в области космонавтики — высадка человека на Лун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21 июля 1969 года. Американский астронавт Нил Армстронг сделал первый шаг по поверхности естественного спутника Земли со словами: — "Это маленький шаг для одного человека, но огромный скачок для всего человечества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BA6E-6F08-4AE5-B63C-248BC1BC16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Нил Олден Армстронг (англ. Neil Alden Armstrong; родился  5 августа 1930 в городке Уапаконета (шт. Огайо). Был участником корейской войны — начиная с 1950 г. совершил 78 боевых вылетов на истребителе Grumman F9F Panther. Получил Авиационную медаль и две Золотые звезды («Дубовые листья»)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 — </a:t>
            </a: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американский астронавт, первый землянин, ступивший на Луну в рамках лунной экспедиции корабля «Аполлон-11».</a:t>
            </a: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6334-83BA-4908-AAA2-7E5ED83B3A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Тем не менее, первые годы развития космонавтики характеризовались не сотрудничеством, а острой конкуренцией в космической области (так называемая Космическая гонка). Международное сотрудничество стало интенсивно развиваться только в последние десятилетия, в первую очередь, благодаря совместному строительству и исследованиям на борту Международной космической ста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E253-19DF-4FDE-80BB-4586CD4F70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1958-5DEF-420D-95E7-9B18DBB608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Сегодняшний день характеризуется новыми проектами и планами освоения космического пространства. Активно развивается космический туризм. Пилотируемая космонавтика вновь собирается вернуться на Луну и обратила свой взор к далёкому Марс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Марс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грамма исследований Марса объединенными усилиями стран Земли предполагает запуск нескольких автоматических межпланетных станций и доставку экипажа из нескольких человек на Марс и обратно. До того, как на Марс ступит нога человека, он должен быть как следует изучен роботами. Недавно Марс исследовал первый марсоход - PathFinder(Следопыт)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своему назначению Следопыт похож на Луноход, однако ручное управление экипажем, движущимся по Марсу, совершенно невозмож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39B0-C5B8-4BCB-BB32-6CE968E9B5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ноход вел человек (между прочим, танкист): изображения телекамер передавались на Землю, водитель принимал решения и нажимал рычаги. Задержка составляла около трех секунд, к чему вполне можно было привыкнуть, тем более что Луноход двигался не очень быстро. Совсем другое дело - Марс, сигнал от которого идет к нам от трех до двадцати минут! Здесь многое приходится автоматизировать, доверять бортовым компьютерам, и тщательно планировать путь робота, чтобы он не упал в яму и не перевернулся от наезда на булыж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C01E-A534-42AC-8B6D-EF913B0B56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B260-AAAF-4FBD-BBC5-C457DA1D18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f96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7f96a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следования и освоение космоса приносят прежде всего практическую пользу. Например, теперь в нашем распоряжении надежная спутниковая теле- радиосвязь, точные прогнозы погоды и многое другое. Но, к сожалению, в результате активизации исследований, резкого увеличения числа запусков ракет-носителей и других аппаратов, а также связанных с этим последствий все чаще происходит загрязнение земной и околоземной среды, что пагубно влияет на экологию Земл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AD62-62B1-47D1-A110-2D2B6B0597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Ракеты нос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ке́та-носи́тель — аппарат, действующий по принципу реактивного движения и предназначенный для выведения полезной нагрузки в космическое простран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кеты-носители подразделяют на одноразовые и многоразовые. Их также классифицируют по количеству ступеней (одноступенчатые, двухступенчатые и т. д.). Наибольшее распространение получили одноразовые многоступенчатые ракеты. Одноразовые ракеты отличаются высокой надёжностью благодаря максимальному упрощению всех элементов. Наличие нескольких ступеней позволяет увеличить отношение массы полезной нагрузки к начальной массе ракеты. В то же время многоступенчатые ракеты требуют наличия территорий для падения промежуточных ступе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лностью многоразовых ракет-носителей пока не существует. Частично многоразовой системой является «Спейс Шаттл». Вопреки ожиданиям, «Спейс Шаттл» не смог обеспечить снижение стоимости доставки грузов на орбиту; кроме того, многоразовость привела к проблемам с надёж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83F9-0F79-400E-82E9-9522660E93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Космические агент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разильское космическое агентство — основано в 1994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вропейское космическое агентство (ЕКА) — 19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Европейское космическое  аге́нтство (сокращённо ЕКА) (European Space Agency) — международная организация, созданная в 1975 году с целью объединения усилий по освоению космоса на благо европей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КА состоит из 17 постоянных членов: Австрия Бельгия Дания Финляндия Франция Германия Ирландия Италия Нидерланды Норвегия Португалия Испания Швеция Швейцария Великобритания Греция (с 22 марта 2005) Люксембург (с 5 августа 2005) В некоторых проектах также принимают участие Канада, Венгрия и Чешская Республика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дийское управление космических исследований — 196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надское космическое агентство — 198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итайское национальное космическое управление —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циональное управление США по аэронавтике и использованию космоса (НАСА) — 195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едеральное космическое агентство России (ФКА РФ) — (199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Японское агентство аэрокосмических исследований (JAXA) —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F3CE-39A9-488D-8397-B3374FCEE5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Ссы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полнительную информацию вы можете найти по этим интеренет-адрес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C11D-F81A-4945-94E0-C6ABB8C3AC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АЖНЕЙШИЕ ЭТАП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 апреля 1981 — вывод на орбиту первого корабля многоразового использования («Колумбия», СШ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 марта 1972 — запуск первого аппарата, покинувшего пределы Солнечной системы (Пионер-10, СШ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8 марта 1965 — первый выход человека в открытый космос (А. Леонов, ССС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AB63-74C7-427C-BC40-37698000B0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04.10.1957. В 19:28 (22 ч 28 мин по московскому времени) с космодрома Байконур был осуществлен пуск ракеты-носителя "Спутник 8К71ПС" №М1-ПС, которая вывела на околоземную орбиту Первый в мире искусственный спутник Земли. Спутник отделился от второй ступени ракеты-носителя на 315-й секунде после старта и был выведен на орби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D368-E9CE-4241-82DF-2EFDF1A35E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утник имел форму шара диаметром 58 см и весом 83,6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нем были установлены два радиопередатчика, непрерывно излучающие сигналы с частот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,005 и 40,0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гагерц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1B51-DBEE-4B34-B5E4-AC99DC1626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утник находился на орбите до 4 января 1958 год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ершив 1440 оборотов; центральный блок ракеты соверши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82 оборота вокруг Земли и вошел в плотные слои атмосферы 2 декабря 1957 г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1C09-4F03-43C5-9B5D-2196E73EF4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бытие 4 октября 1957 года имело громадное значение для познания свойств космического пространства и изучения Земли как планеты нашей Солнечн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D49C-1150-41B7-8954-CAF36366DA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пуском первого в мире спут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 октябр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957 г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а открыта космическая эра в истории челове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гадочный мир звезд и планет с давних времен притягивал к себе внимание людей. Но ближе и доступнее он стал только с проникновением человека в космическое пространство. Современные спутники широко используются в народном хозяйстве. Они позволяют уточнить прогноз погоды, помогают морским штурманам определять местонахождение кораблей в океане, обеспечивают космическую радио- и телевизионную связь и многое друг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E526-DAA9-4837-AEB3-91181AA002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5AD98-5C48-49E2-AA45-80A1BBEE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A7906-5229-4E1A-983D-5B60DC77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73832-8AB3-4535-8B47-A80F7E9D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36227-4E02-455D-8368-7206CB99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10F7-3955-42CE-802A-AFF1C15C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8F09-2ECB-46E7-A05C-006A942A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3067-8357-4939-AC9F-F9FE000E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C966-0AF5-441E-B998-F77A18F7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A412-662C-4795-8034-5CD88BA7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F793-4A96-4766-BCA1-7BB1125E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A398-4CA6-43E0-B687-28978740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B0492-F601-4259-8A81-1F696DDE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9F5A-9F42-4E59-8E8D-111F62E0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2F65-CBAA-4A9D-8129-CF1544EA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5204-7D03-4CF7-9769-7624C182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EDC3-16CA-41BA-AE5B-B086E4CC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D2F3-175F-4AD8-A618-633F6CAC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9474D-3B90-49E2-BCCF-A554E27F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8B41B-4AEE-437C-BB6B-0E374E10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1E856-7895-40CD-A877-3FBEDCAB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B379D-5545-4E99-A077-7C5AF66E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F9859-E641-42F1-8ABE-3684DABE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9EC65-B684-426D-96F4-5104D253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4D79C-13EB-4522-B7B2-04A61B4D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F884-FD5F-4613-B1E8-3ABAED2289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44C8-9410-4643-BDF3-E5CECBA3D0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147621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82692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ДиДюЛ-Каметы хвост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evt="end">
                                        <p:tn val="9"/>
                                      </p:cond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15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115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xit" presetID="2" presetSubtype="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" nodeType="after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292720" y="188640"/>
            <a:ext cx="38512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ачалом пилотируемой космонавтики стал полёт советского космонавта Юрия Гагарина 12 апреля 196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7" descr="308b8760c13f5e6bfdc45222479"/>
          <p:cNvPicPr/>
          <p:nvPr/>
        </p:nvPicPr>
        <p:blipFill>
          <a:blip r:embed="rId1"/>
          <a:stretch/>
        </p:blipFill>
        <p:spPr>
          <a:xfrm>
            <a:off x="395280" y="333360"/>
            <a:ext cx="5138640" cy="619128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00720" y="189000"/>
            <a:ext cx="46432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2.04.1961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6:07 с космодрома Байконур стартовала ракета-носитель 8К72, впоследствии названная РН "Восток",  которая вывела на околоземную орбиту советский космический корабль "Восток" 3КА №3. Впервые в мире космический корабль с человеком на борту ворвался в просторы Вселенно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6" descr="163711312"/>
          <p:cNvPicPr/>
          <p:nvPr/>
        </p:nvPicPr>
        <p:blipFill>
          <a:blip r:embed="rId1"/>
          <a:stretch/>
        </p:blipFill>
        <p:spPr>
          <a:xfrm>
            <a:off x="250920" y="189000"/>
            <a:ext cx="4681440" cy="5256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gagarin"/>
          <p:cNvPicPr/>
          <p:nvPr/>
        </p:nvPicPr>
        <p:blipFill>
          <a:blip r:embed="rId2"/>
          <a:stretch/>
        </p:blipFill>
        <p:spPr>
          <a:xfrm>
            <a:off x="900000" y="3789360"/>
            <a:ext cx="3414960" cy="30686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3492360" y="0"/>
            <a:ext cx="5651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рабль пилотировал советский космонавт Юрий Алексеевич Гагарин. (1936-1968)-летчик-космонавт СССР, полковник, Герой Советского Союза. Окончил Военно-воздушную инженерную академию им. Н.Е.Жуковског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61 г. впервые в истории человечества совершил полет в космос на космическом корабле "Восток"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аствовал в обучении и тренировке экипажей космонавтов. Почетный член Международной академии астронавтики. Погиб во время тренировочного полета на самолете. Именем Гагарина назван кратер на обратной стороне Лун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7" descr="40792648_1236628510_gagarin_skaf"/>
          <p:cNvPicPr/>
          <p:nvPr/>
        </p:nvPicPr>
        <p:blipFill>
          <a:blip r:embed="rId1"/>
          <a:stretch/>
        </p:blipFill>
        <p:spPr>
          <a:xfrm>
            <a:off x="0" y="0"/>
            <a:ext cx="3809880" cy="308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2"/>
          <p:cNvPicPr/>
          <p:nvPr/>
        </p:nvPicPr>
        <p:blipFill>
          <a:blip r:embed="rId2"/>
          <a:stretch/>
        </p:blipFill>
        <p:spPr>
          <a:xfrm>
            <a:off x="468360" y="2924280"/>
            <a:ext cx="3116160" cy="39337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gagarin.avi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569080" cy="60501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67268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1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072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ля длительной работы в космосе используют станции «Салют» и «Мир». Размеры их таковы, что внутри могут длительное время жить и работать несколько космонавтов. Они ведут научные исследования не только внутри космического корабля, но и в открытом космосе. Связь станций с Землей осуществляется космическими кораблями типа «Союз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755640" y="18900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Garamond"/>
              </a:rPr>
              <a:t>«Леонов в космосе»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spaceman.avi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3113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evt="end">
                                        <p:tn val="333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37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0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341" dur="1" fill="hold">
                                    <p:stCondLst>
                                      <p:cond evt="end">
                                        <p:tn val="339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BT001395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5977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4481280"/>
            <a:ext cx="9144000" cy="2376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Tahoma"/>
              </a:rPr>
              <a:t>Космические аппараты исследуют не только Землю, но и её естественный спутник – Луну. Много интересного рассказали о ней запущенные в СССР луноходы, управляемые с Земл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5" descr="moon4"/>
          <p:cNvPicPr/>
          <p:nvPr/>
        </p:nvPicPr>
        <p:blipFill>
          <a:blip r:embed="rId2"/>
          <a:stretch/>
        </p:blipFill>
        <p:spPr>
          <a:xfrm>
            <a:off x="0" y="0"/>
            <a:ext cx="4356000" cy="4525920"/>
          </a:xfrm>
          <a:prstGeom prst="rect">
            <a:avLst/>
          </a:prstGeom>
          <a:ln w="0">
            <a:noFill/>
          </a:ln>
        </p:spPr>
      </p:pic>
      <p:pic>
        <p:nvPicPr>
          <p:cNvPr id="177" name="ДиДюЛ-Каметы хвост.mp3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0" y="4869000"/>
            <a:ext cx="9144000" cy="19234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Times New Roman"/>
              </a:rPr>
              <a:t>Одно из самых выдающихся свершений в области космонавтики — высадка человека на Луну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Times New Roman"/>
              </a:rPr>
              <a:t>21 июля 1969 года. Американский астронавт Нил Армстронг сделал первый шаг по поверхности естественного спутника Земли со словами: — "Это маленький шаг для одного человека, но огромный скачок для всего человечества"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2901960" cy="3429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6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Нил Олден Армстронг (англ. Neil Alden Armstrong; родился  5 августа 1930 в городке Уапаконета (шт. Огайо). Был участником корейской войны — начиная с 1950 г. совершил 78 боевых вылетов на истребителе Grumman F9F Panther. Получил Авиационную медаль и две Золотые звезды («Дубовые листья»).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 — </a:t>
            </a: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американский астронавт, первый землянин, ступивший на Луну в рамках лунной экспедиции корабля «Аполлон-11».</a:t>
            </a:r>
            <a:r>
              <a:rPr b="1" lang="ru-RU" sz="1800" spc="-1" strike="noStrike">
                <a:solidFill>
                  <a:srgbClr val="00051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3357360"/>
            <a:ext cx="914400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Тем не менее, первые годы развития космонавтики характеризовались не сотрудничеством, а острой конкуренцией в космической области (так называемая Космическая гонка). Международное сотрудничество стало интенсивно развиваться только в последние десятилетия, в первую очередь, благодаря совместному строительству и исследованиям на борту Международной космической стан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147621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82692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План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1 Введение</a:t>
            </a: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2 Важнейшие этапы освоения космоса</a:t>
            </a: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3 Космические агентства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 Ракеты-носители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5</a:t>
            </a: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 Вывод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6</a:t>
            </a: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 Ссылк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ДиДюЛ-Каметы хвост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evt="end">
                                        <p:tn val="47"/>
                                      </p:cond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15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1155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115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115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xit" presetID="2" presetSubtype="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73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74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3744720"/>
            <a:ext cx="914400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егодняшний день характеризуется новыми проектами и планами освоения космического пространства. Активно развивается космический туризм. Пилотируемая космонавтика вновь собирается вернуться на Луну и обратила свой взор к далёкому Марс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859280" y="27432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Garamond"/>
              </a:rPr>
              <a:t>Марсоход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0"/>
            <a:ext cx="428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ограмма исследований Марса объединенными усилиями стран Земли предполагает запуск нескольких автоматических межпланетных станций и доставку экипажа из нескольких человек на Марс и обратно. До того, как на Марс ступит нога человека, он должен быть как следует изучен роботами. Недавно Марс исследовал первый марсоход - PathFinder(Следопыт)!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 своему назначению Следопыт похож на Луноход, однако ручное управление экипажем, движущимся по Марсу, совершенно невозможн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6" name="Picture 4" descr="marsohods"/>
          <p:cNvPicPr/>
          <p:nvPr/>
        </p:nvPicPr>
        <p:blipFill>
          <a:blip r:embed="rId1"/>
          <a:stretch/>
        </p:blipFill>
        <p:spPr>
          <a:xfrm>
            <a:off x="4284720" y="1557360"/>
            <a:ext cx="4859280" cy="42307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424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уноход вел человек (между прочим, танкист): изображения телекамер передавались на Землю, водитель принимал решения и нажимал рычаги. Задержка составляла около трех секунд, к чему вполне можно было привыкнуть, тем более что Луноход двигался не очень быстро. Совсем другое дело - Марс, сигнал от которого идет к нам от трех до двадцати минут! Здесь многое приходится автоматизировать, доверять бортовым компьютерам, и тщательно планировать путь робота, чтобы он не упал в яму и не перевернулся от наезда на булыжни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7f96a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67f96a"/>
                </a:solidFill>
                <a:latin typeface="Garamond"/>
              </a:rPr>
              <a:t>Вывод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следования и освоение космоса приносят прежде всего практическую пользу. Например, теперь в нашем распоряжении надежная спутниковая теле- радиосвязь, точные прогнозы погоды и многое другое. Но, к сожалению, в результате активизации исследований, резкого увеличения числа запусков ракет-носителей и других аппаратов, а также связанных с этим последствий все чаще происходит загрязнение земной и околоземной среды, что пагубно влияет на экологию Земли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859280" y="188640"/>
            <a:ext cx="428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́та-носи́тель — аппарат, действующий по принципу реактивного движения и предназначенный для выведения полезной нагрузки в космическое пространств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ты-носители подразделяют на одноразовые и многоразовые. Их также классифицируют по количеству ступеней (одноступенчатые, двухступенчатые и т. д.). Наибольшее распространение получили одноразовые многоступенчатые ракеты. Одноразовые ракеты отличаются высокой надёжностью благодаря максимальному упрощению всех элементов. Наличие нескольких ступеней позволяет увеличить отношение массы полезной нагрузки к начальной массе ракеты. В то же время многоступенчатые ракеты требуют наличия территорий для падения промежуточных ступене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лностью многоразовых ракет-носителей пока не существует. Частично многоразовой системой является «Спейс Шаттл». Вопреки ожиданиям, «Спейс Шаттл» не смог обеспечить снижение стоимости доставки грузов на орбиту; кроме того, многоразовость привела к проблемам с надёжностью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1312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4788000" y="0"/>
            <a:ext cx="4356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ты-носители также подразделяют на предназначенные для пилотируемых и для беспилотных полётов. Ракеты для пилотируемых полётов должны обладать бо́льшей надёжностью (также на них устанавливается система аварийного спасения); допустимое ускорение для них ограничено перегрузками, которые выдерживает человек. По этим причинам ракеты для пилотируемых полётов менее эффективны; тем не менее, из соображений унификации их нередко используют и для запуска беспилотных аппаратов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ервой ракетой-носителем, доставившей груз на орбиту, была советская Р-7 (1957 г.). В настоящее время самая мощная ракета в мире — американский «Спейс Шаттл». Самая мощная российская ракета-носитель на данный момент это «Протон-М», позволяющая выводить на низкую околоземную орбиту до 22 тонн полезного груза. В прошлом стартовали и более мощные ракеты, такие как советские «Н-1» и «Энергия» или американская «Сатурн V». Однако ни одна из этих ракет в настоящее время не производитс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ff33"/>
                </a:solidFill>
                <a:latin typeface="Garamond"/>
              </a:rPr>
              <a:t>Ракеты носител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8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443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63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63500"/>
                            </p:stCondLst>
                            <p:childTnLst>
                              <p:par>
                                <p:cTn id="452" nodeType="afterEffect" fill="hold" presetClass="exit" presetID="3" presetSubtype="10">
                                  <p:stCondLst>
                                    <p:cond delay="20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Космические агент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разильское космическое агентство — основано в 1994 год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вропейское космическое агентство (ЕКА) — 1964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Европейское космическое  аге́нтство (сокращённо ЕКА) (European Space Agency) — международная организация, созданная в 1975 году с целью объединения усилий по освоению космоса на благо европейце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КА состоит из 17 постоянных членов: Австрия Бельгия Дания Финляндия Франция Германия Ирландия Италия Нидерланды Норвегия Португалия Испания Швеция Швейцария Великобритания Греция (с 22 марта 2005) Люксембург (с 5 августа 2005) В некоторых проектах также принимают участие Канада, Венгрия и Чешская Республика.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ндийское управление космических исследований — 1969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надское космическое агентство — 1989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итайское национальное космическое управление — 199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циональное управление США по аэронавтике и использованию космоса (НАСА) — 1958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Федеральное космическое агентство России (ФКА РФ) — (1990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Японское агентство аэрокосмических исследований (JAXA) — 200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1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1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10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1000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Ссыл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Дополнительную информацию вы можете найти по этим интеренет-адресам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АЖНЕЙШИЕ ЭТАПЫ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1104840" cy="1590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1547640" y="0"/>
            <a:ext cx="2232360" cy="1541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3"/>
          <a:stretch/>
        </p:blipFill>
        <p:spPr>
          <a:xfrm>
            <a:off x="4206960" y="0"/>
            <a:ext cx="1463760" cy="1557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4"/>
          <a:stretch/>
        </p:blipFill>
        <p:spPr>
          <a:xfrm>
            <a:off x="6145200" y="0"/>
            <a:ext cx="1317600" cy="1557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Безымянный2"/>
          <p:cNvPicPr/>
          <p:nvPr/>
        </p:nvPicPr>
        <p:blipFill>
          <a:blip r:embed="rId5"/>
          <a:stretch/>
        </p:blipFill>
        <p:spPr>
          <a:xfrm>
            <a:off x="7961400" y="0"/>
            <a:ext cx="1182600" cy="1628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6"/>
          <a:stretch/>
        </p:blipFill>
        <p:spPr>
          <a:xfrm>
            <a:off x="395280" y="3902040"/>
            <a:ext cx="4105440" cy="2955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2"/>
          <p:cNvSpPr/>
          <p:nvPr/>
        </p:nvSpPr>
        <p:spPr>
          <a:xfrm>
            <a:off x="0" y="2349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 октября 1957 — первый ИСЗ (СССР)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0" y="2421000"/>
            <a:ext cx="88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61 — первый полёт человека в космос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Ю. Гагарин, СССР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50920" y="2852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8 марта 1965 — первый выход человека в открытый космос (А. Леонов, СССР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179280" y="242100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1 июля 1969 — высадка человека на Луну (Н. Армстронг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250920" y="227664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9 апреля 1971 — первая орбитальная станция (СССР), позднее — совместно с США, создание международной станц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0" y="256536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 марта 1972 — запуск первого аппарата, покинувшего пределы Солнечной системы (Пионер-10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0" y="234936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81 — вывод на орбиту первого корабля многоразового использования («Колумбия»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19" descr="125922ma"/>
          <p:cNvPicPr/>
          <p:nvPr/>
        </p:nvPicPr>
        <p:blipFill>
          <a:blip r:embed="rId7"/>
          <a:stretch/>
        </p:blipFill>
        <p:spPr>
          <a:xfrm>
            <a:off x="5724360" y="3870360"/>
            <a:ext cx="2988000" cy="29876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19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76720" y="0"/>
            <a:ext cx="586728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04.10.1957. В 19:28 (22 ч 28 мин по московскому времени) с космодрома Байконур был осуществлен пуск ракеты-носителя "Спутник 8К71ПС" №М1-ПС, которая вывела на околоземную орбиту Первый в мире искусственный спутник Земли. Спутник отделился от второй ступени ракеты-носителя на 315-й секунде после старта и был выведен на орбиту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6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06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092480" y="0"/>
            <a:ext cx="5051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путник имел форму шара диаметром 58 см и весом 83,6 кг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нем были установлены два радиопередатчика, непрерывно излучающие сигналы с частотой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0,005 и 40,002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егагерц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27" dur="5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092480" y="0"/>
            <a:ext cx="5051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путник находился на орбите до 4 января 1958 года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вершив 1440 оборотов; центральный блок ракеты совершил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882 оборота вокруг Земли и вошел в плотные слои атмосферы 2 декабря 1957 года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44" dur="5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43280" y="-360"/>
            <a:ext cx="45007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бытие 4 октября 1957 года имело громадное значение для познания свойств космического пространства и изучения Земли как планеты нашей Солнечной системы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53" dur="5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219280" y="0"/>
            <a:ext cx="39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апуском первого в мире спутни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4 октябр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957 го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ыла открыта космическая эра в истории человечества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74" dur="5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Загадочный мир звезд и планет с давних времен притягивал к себе внимание людей. Но ближе и доступнее он стал только с проникновением человека в космическое пространство. Современные спутники широко используются в народном хозяйстве. Они позволяют уточнить прогноз погоды, помогают морским штурманам определять местонахождение кораблей в океане, обеспечивают космическую радио- и телевизионную связь и многое друго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4" descr="0064"/>
          <p:cNvPicPr/>
          <p:nvPr/>
        </p:nvPicPr>
        <p:blipFill>
          <a:blip r:embed="rId1"/>
          <a:stretch/>
        </p:blipFill>
        <p:spPr>
          <a:xfrm>
            <a:off x="5580000" y="1484280"/>
            <a:ext cx="3319560" cy="24894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9:54:13Z</dcterms:created>
  <dc:creator>Alexey</dc:creator>
  <dc:description/>
  <dc:language>en-US</dc:language>
  <cp:lastModifiedBy>LEGION</cp:lastModifiedBy>
  <dcterms:modified xsi:type="dcterms:W3CDTF">2015-01-13T12:43:48Z</dcterms:modified>
  <cp:revision>43</cp:revision>
  <dc:subject/>
  <dc:title>Мировая  история освоения  космоса</dc:title>
</cp:coreProperties>
</file>